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EC59-A92C-4BF5-BDCF-7AE84475E3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B29F-C550-4E7F-9B88-71DC60635D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4C04-969A-4433-B546-5F7A5275D7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FEAC-1DD0-4B8E-B817-5EF4F5A2B3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676E-7C8C-4473-B9E6-69E406E0C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F0D2-451E-495F-A916-2E3001DC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D7DB-98FE-44FC-BE20-E3DA70620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BA6B-DE63-42EA-99BB-1F2CD19AF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61D7-04CA-4CCE-BD7E-403FFF71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513C-B1FF-487F-BDAA-E915FE74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77DC-5BCB-4E53-B24F-F083027F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E09B-2572-40E6-AAB0-F4984383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8475-131E-45EF-837D-FE307578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247E-0716-4D66-9B90-B0CB318F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64A3-1BF2-4505-8484-DE028C3C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F570-4B13-4E46-A901-C581C26C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9520-8745-4521-8E49-6432CDDB20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914400" y="685800"/>
            <a:ext cx="76597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hiller"/>
              </a:rPr>
              <a:t>BERRY FULL OF DNA: STRAWBERRY DNA EXT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-192240"/>
            <a:ext cx="9144000" cy="712152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310680" y="0"/>
            <a:ext cx="85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averycoonley.org/news/60460/ACS-News-Whats-new-in-biology-today...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7249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06:28:40Z</dcterms:created>
  <dc:creator>Angie</dc:creator>
  <dc:description/>
  <dc:language>en-US</dc:language>
  <cp:lastModifiedBy>Angie</cp:lastModifiedBy>
  <dcterms:modified xsi:type="dcterms:W3CDTF">2011-03-29T06:47:26Z</dcterms:modified>
  <cp:revision>4</cp:revision>
  <dc:subject/>
  <dc:title>Slide 1</dc:title>
</cp:coreProperties>
</file>